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06F6-8837-4754-82B0-D9C95A247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2418-CC05-4ACB-A70B-21751CA67457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CC21-A9C3-4E73-ADBD-574AEE339284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CFA8-E275-4A0B-B776-F4B56F0C083A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0C29-8F91-483B-8EEF-E95DC80B5AC0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D013-5206-4953-895E-CDB40AD0C961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02E1-9B38-4274-B94F-87B7BA0297A1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552D-30C4-45EC-8B70-538E44045797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3975-20D5-4E56-B723-3C0C6D4D9192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719D-E4B7-44A1-A010-6AC0A599ED6A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0774-88ED-4BCC-A51F-A336B8E9F246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5130-9FC1-478B-9EBF-FF0AD392949F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BA65-4B83-4582-B46D-B3DA35CE2C35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06EE-1D1B-4EF8-A81D-5127BE262951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0574-E881-476F-AA4F-DB8A76BFA8A8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2E5F-FD08-4555-846E-202386604DD2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7805-49F6-400D-8DC2-724E856DE1E7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687F-A898-4843-973E-F9DAE24C46F9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1352-5713-414F-990D-6C1BA19C81A6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6E95-E345-486C-95C2-8D2B0A53E590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E3A9-3A46-4D22-A8ED-21F8E81E7D27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A42A-D888-4718-8857-E211D8601DF5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F117-92FB-4AB1-9765-48F0E39AF5C2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206A-2AE5-42E6-953E-22E58212E0EC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D74A-234B-4369-83AA-374D2B60082C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F8FC-B0CA-4FB1-9957-3B1B8903822E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CDEA-2DC8-45A8-879E-8B4A159727F4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B38D-9A3F-44B4-9B86-89BF27D31641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F926-3967-417D-B756-5A11E687EF57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61E1-2B10-4BBF-9250-CA492CD31A72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BB1E-80C5-483D-9119-7932B5E7CAC9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56C5-382D-48D0-8A46-B1DFDB9B03BE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A278-5114-422E-9ED1-7A1BD6F91631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F10E-0BF6-4D8E-99A3-CEC367C7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9D52-0EDB-4254-AF9E-2BE4A135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4B5C-0595-4E8E-8A7F-A9F25DA17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E60C-6AD3-422A-882F-19F757567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721B-49CB-44DC-9CA4-8DCB349D8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C357-9CBE-4E66-8813-2F1766C1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92DF-6ACB-481F-A2F4-2FA98E08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4EA0-294A-4771-9592-4EC9C8B2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2557-35AB-4766-8DC7-86C76DC1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6DD4-24DF-4DA5-AEF6-A52FD5C0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D389-1AA2-45C3-A803-E3F27E94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03F0-F607-4968-A620-F2498CA9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63AB-D3EE-4710-A4E1-E4FA7CEB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0C90-BA33-443F-8B67-66C4F6B1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E13B-5401-4544-9CAE-48BC0CCA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D934-282A-4E6A-BDE6-D9468093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E1D7-AFB8-4595-8E39-DBC6FEA92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0B5E-6E15-40D7-9915-46506D95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C8EC-C718-49DF-ACFC-2FC3351E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FC8D-93BC-496D-86D7-01D6FE87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14FA-F4E9-4CD5-BF19-22E0FA02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5A8A-3D75-46FC-92EB-3C570475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C66B-470E-43A3-B90B-527DCBDC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EC17-6C3A-4B31-A6C5-EC484E08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029C-F002-4B1A-BA4B-ABB2E61DA7F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C7B1-227E-4113-BC25-32DBA5BFAA6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CONOMICS OF EDUC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PU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UTCOM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INT OF DIMINISHING RETURN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N YOU EXCEED THE MARGINAL DOLLAR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ACT ON ADEQUAC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IRTH R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RVI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FL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RRECTING INEQUA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AXPAYER REVO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PECT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MOGRAPHIC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BILITY TO TA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BILITY OF TA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NROLL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YPE OF SCHOOL YE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CIAL PROBLE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BIL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RITERIA FOR FINANCE PL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EQUAC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QUITAB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SCAL NEUTRAL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APTABIL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URDEN OF TAX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GRESSIVE TA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PORTIONAL TA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ESS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EASURE OF SCHOOL DISTRICT WEALT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SESSED VALUE PER PUPI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SESSED VALUE PER CAPIT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ATISTICAL: COMBINED ASSESSED VALUE WITH FAMILY INCO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ALTH TA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TAL INCO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URCES OF LOCAL REVENU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LE OF SERVI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E TAX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FI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VEST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N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NES AND RECOVER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VARIABLES IN TAXATION SYSTE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METHING OF VALUE TO BE TAX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STABLISH A VALUE FOR TAX PURPOS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TERMINE A RATE OF TAX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RUE MARKET VALU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STABLISHED BETWEEN WILLING BUYER AND SEL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RATE OF TAX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%=SALES TA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ENTS/HUNDRED=REAL E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LLS=I/10 OF ONE C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DUCATION IS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EDERAL CONC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ATE RESPOSIBIL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OCAL OPER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REAL ESTA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SIDENTI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DUSTRI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GRICULTUR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MERCI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NUS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ANGIBLE TAX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ERSONAL PROPER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TANGIBLE TAX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NEY REL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DVANTAGES OF REAL ESTATE TAX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NDERSTANDAB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ASILY COLLEC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GUL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IGHLY PRODUCT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ASY TO SEE BENEFI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ES ADEQUATE INCO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ISADVANTAGES OF REAL ESTATE TAX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QUITABL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ROSION OF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STRIC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NRESPONSIVE TO ECONOMIC CHAN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GRESSIVE ON LOWER INCO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AX EXEMP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DVANTAGES OF INCOME TAX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AIR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ASILY ADMINISTE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ISADVANTAGES OF INCOME TAX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E-EMPTS OTHER TAX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ST PROGRESS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RD TO VISUAL OUTCOM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DVANTAGES OF SALES TAX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OOD SOURCE IN GOOD ECONOM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LL ACCEPTED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NSITIVE TO ECONOMIC GROW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ISADVANTAGES OF SALES TAX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NDS TO BE REGRESS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N BE EVA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PENDENT ON RETAI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OTTERI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HANGING EXPECTATION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OCAL CONTROL OF MONI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VELOPMENTAL STAGES OF SCHOOL FINAN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.  LOCAL RESPONSIBIL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I.  GRANTS AND ALLOCAT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II.  FOUNDATION PROGRAM CONCEP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V.  REFINEMENT OF FOUNDATION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.  EMERGING POWER EQUALIZ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ASIC ASSUMPTIONS OF STATE FUNDING SYSTE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LLARS CAN BE TRANSLATED INTO EDUCATIONAL EXPERIEN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GRAM COST ARE SAME ACROSS THE STA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ST OF FOUNDATION PROGRAMS ARE TO SHARED WITH LOCAL AGENC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ST BEYOND PROGRAM ARE FUNDED BY LOCAL AGENC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S EDUCATION A NECESSITY OR LUXURY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INANCIAL SOURC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EDERAL=INCO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ATE =INCOME AND S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OCAL=REAL ESTATE OR ADD ON S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NATION</a:t>
            </a:r>
            <a:r>
              <a:rPr b="0" lang="en-US" sz="4400" spc="-1" strike="noStrike">
                <a:solidFill>
                  <a:srgbClr val="ebd189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 LARGEST INDUSTRY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CONOMIC IMPACT ON COMMUN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QU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EQUAC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PPROACHING EQUIT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LLARS PER STUD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EXPENDI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PECIAL PROGR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ARGINAL TAX DOLLA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TERMINED BY THE VALUE OF SERVI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14:45:05Z</dcterms:created>
  <dc:creator>AEURY</dc:creator>
  <dc:description/>
  <dc:language>en-US</dc:language>
  <cp:lastModifiedBy>AEURY</cp:lastModifiedBy>
  <dcterms:modified xsi:type="dcterms:W3CDTF">2009-06-15T15:55:49Z</dcterms:modified>
  <cp:revision>3</cp:revision>
  <dc:subject/>
  <dc:title>ECONOMICS OF EDUCATION</dc:title>
</cp:coreProperties>
</file>